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EB25-AE0A-407A-AC4B-5BD57DAA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5EFA-7704-4F83-B73B-F4255487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0FAF-5651-4F7E-BEE6-46A7B6BB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0ADF-3B77-4D4F-A669-E098038B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D529-289C-404C-92C1-BCBDB43D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3F25-2DEA-49F1-916F-5E49B6B2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1E11-C5EA-4E34-A571-EF04AA9D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9905-CD5E-4727-BB1B-64EAE5BA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EBAC-36DF-473C-8E9F-8ED6B66A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713C-7D96-4FA8-95E1-C9A96CBB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3C37-A7AA-478C-A1B6-26B8BBCE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3299-027C-47C2-8C07-048342A7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F53A-5B0A-4FBC-B3C5-D091F541B76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27640" y="0"/>
            <a:ext cx="4716360" cy="1916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ναλυτής: </a:t>
            </a:r>
            <a:r>
              <a:rPr b="1" lang="el-GR" sz="2800" spc="-1" strike="noStrike" u="sng">
                <a:solidFill>
                  <a:srgbClr val="000000"/>
                </a:solidFill>
                <a:uFillTx/>
                <a:latin typeface="Times New Roman"/>
              </a:rPr>
              <a:t>επικεφαλής  επιτροπής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«</a:t>
            </a:r>
            <a:r>
              <a:rPr b="1" lang="el-GR" sz="2800" spc="-1" strike="noStrike" u="sng">
                <a:solidFill>
                  <a:srgbClr val="000000"/>
                </a:solidFill>
                <a:uFillTx/>
                <a:latin typeface="Times New Roman"/>
              </a:rPr>
              <a:t>σοφών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»</a:t>
            </a:r>
            <a:r>
              <a:rPr b="1" lang="el-GR" sz="2800" spc="-1" strike="noStrike" u="sng">
                <a:solidFill>
                  <a:srgbClr val="000000"/>
                </a:solidFill>
                <a:uFillTx/>
                <a:latin typeface="Times New Roman"/>
              </a:rPr>
              <a:t> για το ασφαλιστικό. Πρώην στέλεχος ΣΕΒ και βιομηχανίας ΤΙΤΑ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4464000" cy="1052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καργκάνας: </a:t>
            </a:r>
            <a:r>
              <a:rPr b="1" lang="el-GR" sz="2800" spc="-1" strike="noStrike" u="sng">
                <a:solidFill>
                  <a:srgbClr val="000000"/>
                </a:solidFill>
                <a:uFillTx/>
                <a:latin typeface="Times New Roman"/>
              </a:rPr>
              <a:t>πρόεδρος Τράπεζας της Ελλάδας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52640"/>
            <a:ext cx="4427640" cy="4247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ΣΧΕΔΙΑΖΟΥΝ: ενοποίηση ταμείων, μείωση συντάξεων, αύξηση ορίων ηλικίας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ας θέλουν να δουλεύουμε μέχρι το θάνατό μα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765000"/>
            <a:ext cx="9144000" cy="2064600"/>
          </a:xfrm>
          <a:prstGeom prst="rect">
            <a:avLst/>
          </a:prstGeom>
          <a:solidFill>
            <a:srgbClr val="ff66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ΧΡΕΙΑΖΟΜΑΣΤ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ΜΑΧΗΤΙΚΟΥΣ ΣΥΛΛΟΓΟΥ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ΓΙΑ ΝΑ ΑΝΑΤΡΕΨΟΥΜΕ ΤΑ ΣΧΕΔΙΑ ΤΟΥ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221000"/>
            <a:ext cx="9144000" cy="201636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anklin Gothic Demi"/>
              </a:rPr>
              <a:t>ΠΑΡΕ ΘΕΣΗ!</a:t>
            </a:r>
            <a:r>
              <a:rPr b="0" lang="en-US" sz="3600" spc="-1" strike="noStrike">
                <a:solidFill>
                  <a:srgbClr val="ffffff"/>
                </a:solidFill>
                <a:latin typeface="Franklin Gothic Dem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Demi"/>
              </a:rPr>
              <a:t>ΣΤΗΡΙΞ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Demi"/>
              </a:rPr>
              <a:t>ΑΝΕΞΑΡΤΗΤΗ ΡΙΖΟΣΠΑΣΤΙΚΗ ΠΑΡΕΜΒΑΣ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2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4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43280" y="5791320"/>
            <a:ext cx="4500720" cy="1068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Αυτός έφτιαξε το νόμ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229360"/>
            <a:ext cx="4643280" cy="58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Αυτός τον εφαρμόζε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3357720"/>
            <a:ext cx="7848720" cy="1373760"/>
          </a:xfrm>
          <a:prstGeom prst="rect">
            <a:avLst/>
          </a:prstGeom>
          <a:solidFill>
            <a:srgbClr val="ff66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Ο </a:t>
            </a:r>
            <a:r>
              <a:rPr b="1" lang="el-GR" sz="2800" spc="-1" strike="noStrike">
                <a:solidFill>
                  <a:srgbClr val="000000"/>
                </a:solidFill>
                <a:latin typeface="Tahoma"/>
              </a:rPr>
              <a:t>Νόμος Ρέππα μειώνει τις συντάξεις      από 1/1/2008 σταδιακά                           από το 80% αναπλήρωσης στο 70%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404640"/>
            <a:ext cx="8208720" cy="10688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333399"/>
              </a:gs>
              <a:gs pos="100000">
                <a:srgbClr val="99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Πιστεύεις ότι ΠΑΣΚ και ΔΑΚΕ                       θέλουν την κατάργησ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του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65000"/>
            <a:ext cx="9144000" cy="2064600"/>
          </a:xfrm>
          <a:prstGeom prst="rect">
            <a:avLst/>
          </a:prstGeom>
          <a:solidFill>
            <a:srgbClr val="ff66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ΧΡΕΙΑΖΟΜΑΣΤ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ΜΑΧΗΤΙΚΟΥΣ ΣΥΛΛΟΓΟΥ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ΓΙΑ ΝΑ ΑΝΑΤΡΕΨΟΥΜΕ ΤΑ ΣΧΕΔΙΑ ΤΟΥ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221000"/>
            <a:ext cx="9144000" cy="201636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anklin Gothic Demi"/>
              </a:rPr>
              <a:t>ΠΑΡΕ ΘΕΣΗ!</a:t>
            </a:r>
            <a:r>
              <a:rPr b="0" lang="en-US" sz="3600" spc="-1" strike="noStrike">
                <a:solidFill>
                  <a:srgbClr val="ffffff"/>
                </a:solidFill>
                <a:latin typeface="Franklin Gothic Dem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Demi"/>
              </a:rPr>
              <a:t>ΣΤΗΡΙΞ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Demi"/>
              </a:rPr>
              <a:t>ΑΝΕΞΑΡΤΗΤΗ ΡΙΖΟΣΠΑΣΤΙΚΗ ΠΑΡΕΜΒΑΣ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9000"/>
                            </p:stCondLst>
                            <p:childTnLst>
                              <p:par>
                                <p:cTn id="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3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1000"/>
                            </p:stCondLst>
                            <p:childTnLst>
                              <p:par>
                                <p:cTn id="7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3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4000"/>
                            </p:stCondLst>
                            <p:childTnLst>
                              <p:par>
                                <p:cTn id="8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3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7000"/>
                            </p:stCondLst>
                            <p:childTnLst>
                              <p:par>
                                <p:cTn id="8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3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30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5280" y="333360"/>
            <a:ext cx="8496360" cy="1556280"/>
          </a:xfrm>
          <a:prstGeom prst="rect">
            <a:avLst/>
          </a:pr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Μελλοντικός δάσκαλος αν εφαρμοστούν τα σχέδια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ΝΔ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και </a:t>
            </a:r>
            <a:r>
              <a:rPr b="1" lang="en-US" sz="3200" spc="-1" strike="noStrike">
                <a:solidFill>
                  <a:srgbClr val="99cc00"/>
                </a:solidFill>
                <a:latin typeface="Tahoma"/>
              </a:rPr>
              <a:t>ΠΑΣΟΚ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ια το ασφαλιστικ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5877000"/>
            <a:ext cx="8353440" cy="581400"/>
          </a:xfrm>
          <a:prstGeom prst="rect">
            <a:avLst/>
          </a:pr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Θα δουλεύουμε μέχρι το θάνατό μας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765000"/>
            <a:ext cx="9144000" cy="2064600"/>
          </a:xfrm>
          <a:prstGeom prst="rect">
            <a:avLst/>
          </a:prstGeom>
          <a:solidFill>
            <a:srgbClr val="ff66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ΧΡΕΙΑΖΟΜΑΣΤ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ΜΑΧΗΤΙΚΟΥΣ ΣΥΛΛΟΓΟΥ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ΓΙΑ ΝΑ ΑΝΑΤΡΕΨΟΥΜΕ ΤΑ ΣΧΕΔΙΑ ΤΟΥ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221000"/>
            <a:ext cx="9144000" cy="201636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anklin Gothic Demi"/>
              </a:rPr>
              <a:t>ΠΑΡΕ ΘΕΣΗ!</a:t>
            </a:r>
            <a:r>
              <a:rPr b="0" lang="en-US" sz="3600" spc="-1" strike="noStrike">
                <a:solidFill>
                  <a:srgbClr val="ffffff"/>
                </a:solidFill>
                <a:latin typeface="Franklin Gothic Dem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Demi"/>
              </a:rPr>
              <a:t>ΣΤΗΡΙΞ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Demi"/>
              </a:rPr>
              <a:t>ΑΝΕΞΑΡΤΗΤΗ ΡΙΖΟΣΠΑΣΤΙΚΗ ΠΑΡΕΜΒΑΣ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8136000" cy="703440"/>
          </a:xfrm>
          <a:prstGeom prst="rect">
            <a:avLst/>
          </a:pr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ffff"/>
                </a:solidFill>
                <a:latin typeface="Tahoma"/>
              </a:rPr>
              <a:t>Εκπαίδευση της φτήνειας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565360"/>
            <a:ext cx="7920000" cy="581400"/>
          </a:xfrm>
          <a:prstGeom prst="rect">
            <a:avLst/>
          </a:pr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Κενά μέχρι το Νοέμβρη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429000"/>
            <a:ext cx="9144000" cy="581400"/>
          </a:xfrm>
          <a:prstGeom prst="rect">
            <a:avLst/>
          </a:pr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Παραρτήματα νηπιαγωγείων χωρίς εξοπλισμ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365720"/>
            <a:ext cx="7920000" cy="581400"/>
          </a:xfrm>
          <a:prstGeom prst="rect">
            <a:avLst/>
          </a:pr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Ελλείψεις βιβλίων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229360"/>
            <a:ext cx="7920000" cy="1068840"/>
          </a:xfrm>
          <a:prstGeom prst="rect">
            <a:avLst/>
          </a:pr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Εκπαιδευτικοί με αμοιβή 7 ευρώ την ώρα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125360"/>
            <a:ext cx="8675640" cy="5814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 ΔΗΜΟΣΙΑ ΕΚΠΑΙΔΕΥΣΗ ΑΠΑΞΙΩΝΕΤΑ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1700280"/>
            <a:ext cx="8172360" cy="5814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Οι κομματικές παρατάξεις δεν αντιδρού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65600">
            <a:off x="222120" y="3784320"/>
            <a:ext cx="8782200" cy="2019240"/>
          </a:xfrm>
          <a:prstGeom prst="rect">
            <a:avLst/>
          </a:pr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anklin Gothic Demi"/>
              </a:rPr>
              <a:t>ΠΑΡΕ ΘΕΣΗ!</a:t>
            </a:r>
            <a:r>
              <a:rPr b="0" lang="en-US" sz="3600" spc="-1" strike="noStrike">
                <a:solidFill>
                  <a:srgbClr val="ffffff"/>
                </a:solidFill>
                <a:latin typeface="Franklin Gothic Dem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Demi"/>
              </a:rPr>
              <a:t>ΣΤΗΡΙΞ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Demi"/>
              </a:rPr>
              <a:t>ΑΝΕΞΑΡΤΗΤΗ ΡΙΖΟΣΠΑΣΤΙΚΗ ΠΑΡΕΜΒΑΣ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3250"/>
                            </p:stCondLst>
                            <p:childTnLst>
                              <p:par>
                                <p:cTn id="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225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369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σε ένα μάθημα με τα καινούργια              βιβλία μαθηματικώ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203720"/>
            <a:ext cx="9144000" cy="10688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Θα καταδικάσουμε τμήμα                                 των μαθητών μας στην αποτυχία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284800"/>
            <a:ext cx="9144000" cy="1068840"/>
          </a:xfrm>
          <a:prstGeom prst="rect">
            <a:avLst/>
          </a:pr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Θα συζητήσουμε επιτέλους για τα καινούργια βιβλία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278400"/>
            <a:ext cx="9144000" cy="5814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ahoma"/>
              </a:rPr>
              <a:t>ΠΑΣΚ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ΔΑΚΕ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ή δε θέλουν ή δε μπορού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21165600">
            <a:off x="179280" y="2420640"/>
            <a:ext cx="8782200" cy="2019240"/>
          </a:xfrm>
          <a:prstGeom prst="rect">
            <a:avLst/>
          </a:pr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anklin Gothic Demi"/>
              </a:rPr>
              <a:t>ΠΑΡΕ ΘΕΣΗ!</a:t>
            </a:r>
            <a:r>
              <a:rPr b="0" lang="en-US" sz="3600" spc="-1" strike="noStrike">
                <a:solidFill>
                  <a:srgbClr val="ffffff"/>
                </a:solidFill>
                <a:latin typeface="Franklin Gothic Dem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Demi"/>
              </a:rPr>
              <a:t>ΣΤΗΡΙΞ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Demi"/>
              </a:rPr>
              <a:t>ΑΝΕΞΑΡΤΗΤΗ ΡΙΖΟΣΠΑΣΤΙΚΗ ΠΑΡΕΜΒΑΣ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3141720"/>
            <a:ext cx="5184720" cy="581400"/>
          </a:xfrm>
          <a:prstGeom prst="rect">
            <a:avLst/>
          </a:pr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Τα ωράρια αυξάνονται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789360"/>
            <a:ext cx="5184720" cy="581400"/>
          </a:xfrm>
          <a:prstGeom prst="rect">
            <a:avLst/>
          </a:pr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 ύλη αυξάνετα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97000"/>
            <a:ext cx="8964720" cy="581400"/>
          </a:xfrm>
          <a:prstGeom prst="rect">
            <a:avLst/>
          </a:pr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αθητές σκληρά εργαζόμενοι από τα 5 τους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844640"/>
            <a:ext cx="8964720" cy="581400"/>
          </a:xfrm>
          <a:prstGeom prst="rect">
            <a:avLst/>
          </a:pr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Φάκελος αξιολόγησης στο νηπιαγωγείο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492280"/>
            <a:ext cx="8964720" cy="581400"/>
          </a:xfrm>
          <a:prstGeom prst="rect">
            <a:avLst/>
          </a:pr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καθηκοντολόγιο και διοικητισμός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5184720" cy="1556280"/>
          </a:xfrm>
          <a:prstGeom prst="rect">
            <a:avLst/>
          </a:pr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η «παιδαγωγική» των                                 νόμων της αγορά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1003600">
            <a:off x="653400" y="688320"/>
            <a:ext cx="6192720" cy="1556280"/>
          </a:xfrm>
          <a:prstGeom prst="rect">
            <a:avLst/>
          </a:pr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Αντί για «παιδαγωγική» των                                 νόμων της αγοράς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1003600">
            <a:off x="2556000" y="1341360"/>
            <a:ext cx="6192720" cy="1068840"/>
          </a:xfrm>
          <a:prstGeom prst="rect">
            <a:avLst/>
          </a:pr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να μιλήσουμε για τις ανάγκες των μαθητών μα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445000"/>
            <a:ext cx="9144000" cy="10688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ahoma"/>
              </a:rPr>
              <a:t>ΠΑΣΚ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ΔΑΚΕ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αποδέχονται αυτή την παιδαγωγική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141720"/>
            <a:ext cx="9144000" cy="2019240"/>
          </a:xfrm>
          <a:prstGeom prst="rect">
            <a:avLst/>
          </a:pr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anklin Gothic Demi"/>
              </a:rPr>
              <a:t>ΠΑΡΕ ΘΕΣΗ!</a:t>
            </a:r>
            <a:r>
              <a:rPr b="0" lang="en-US" sz="3600" spc="-1" strike="noStrike">
                <a:solidFill>
                  <a:srgbClr val="ffffff"/>
                </a:solidFill>
                <a:latin typeface="Franklin Gothic Dem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Demi"/>
              </a:rPr>
              <a:t>ΣΤΗΡΙΞ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Demi"/>
              </a:rPr>
              <a:t>ΑΝΕΞΑΡΤΗΤΗ ΡΙΖΟΣΠΑΣΤΙΚΗ ΠΑΡΕΜΒΑΣ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3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35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55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189000"/>
            <a:ext cx="4752720" cy="2043720"/>
          </a:xfrm>
          <a:prstGeom prst="rect">
            <a:avLst/>
          </a:pr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Τα σήματα κινδύνου                        για το δημόσιο σχολείο                   είναι ορατά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3213000"/>
            <a:ext cx="8785440" cy="947160"/>
          </a:xfrm>
          <a:prstGeom prst="rect">
            <a:avLst/>
          </a:pr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Ενάντια στην υποταγή της κομματικής συνδικαλιστικής γραφειοκρατείας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4292640"/>
            <a:ext cx="8785440" cy="947160"/>
          </a:xfrm>
          <a:prstGeom prst="rect">
            <a:avLst/>
          </a:pr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Ενάντια στην πολιτική της φτώχειας του μίζερου απαξιωμένου και εντατικοποιημένου σχολείο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5373720"/>
            <a:ext cx="8785440" cy="947160"/>
          </a:xfrm>
          <a:prstGeom prst="rect">
            <a:avLst/>
          </a:pr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Ενάντια στην πολιτική της εργασίας μέχρι το θάνατο και των υπερκερδών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9280" y="189000"/>
            <a:ext cx="8713800" cy="1068840"/>
          </a:xfrm>
          <a:prstGeom prst="rect">
            <a:avLst/>
          </a:prstGeom>
          <a:solidFill>
            <a:srgbClr val="ff66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ΣΥΝΕΧΙΖΟΥΜΕ  ΑΜΕΣΟΔΗΜΟΚΡΑΤΙΚΑ ΑΓΩΝΙΣΤΙΚΑ, ΣΥΛΛΟΓΙΚΑ, ΝΙΚΗΦΟ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628640"/>
            <a:ext cx="8713800" cy="1068840"/>
          </a:xfrm>
          <a:prstGeom prst="rect">
            <a:avLst/>
          </a:prstGeom>
          <a:solidFill>
            <a:srgbClr val="ff66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ΑΓΩΝΙΖΟΜΑΣΤΕ ΓΙΑ ΤΙΣ ΜΟΡΦΩΤΙΚΕΣ ΑΝΑΓΚΕΣ ΤΩΝ ΜΑΘΗΤΩΝ Μ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2852640"/>
            <a:ext cx="8713800" cy="581400"/>
          </a:xfrm>
          <a:prstGeom prst="rect">
            <a:avLst/>
          </a:prstGeom>
          <a:solidFill>
            <a:srgbClr val="ff66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ΓΙΑ ΑΞΙΟΠΡΕΠΗ ΔΙΑΒΙΩΣΗ ΚΑΙ ΣΥΝΤΑΞ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3716280"/>
            <a:ext cx="8713800" cy="1068840"/>
          </a:xfrm>
          <a:prstGeom prst="rect">
            <a:avLst/>
          </a:prstGeom>
          <a:solidFill>
            <a:srgbClr val="ff66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ΓΙΑ ΝΑ ΥΠΕΡΑΣΠΙΣΟΥΜΕ ΤΑ ΕΡΓΑΣΙΑΚΑ ΜΑΣ ΔΙΚΑΙΩΜΑΤ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5157720"/>
            <a:ext cx="8713800" cy="1068840"/>
          </a:xfrm>
          <a:prstGeom prst="rect">
            <a:avLst/>
          </a:prstGeom>
          <a:solidFill>
            <a:srgbClr val="ff66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ΓΙΑ ΕΝΑ ΣΧΟΛΕΙΟ ΤΗΣ ΠΑΙΔΑΓΩΓΙΚΗΣ ΕΛΕΥΘΕΡΙ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907920"/>
            <a:ext cx="9144000" cy="2043720"/>
          </a:xfrm>
          <a:prstGeom prst="rect">
            <a:avLst/>
          </a:pr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pperplate Gothic Bold"/>
              </a:rPr>
              <a:t>Για τα μάτια ενός παιδιού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pperplate Gothic Bold"/>
              </a:rPr>
              <a:t>που ψάχνει γη…     </a:t>
            </a:r>
            <a:r>
              <a:rPr b="1" lang="en-US" sz="32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pperplate Gothic Bold"/>
              </a:rPr>
              <a:t>…..γκρεμίζουμε ουρανού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508640"/>
            <a:ext cx="9144000" cy="2019240"/>
          </a:xfrm>
          <a:prstGeom prst="rect">
            <a:avLst/>
          </a:pr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anklin Gothic Demi"/>
              </a:rPr>
              <a:t>ΠΑΡΕ ΘΕΣΗ!</a:t>
            </a:r>
            <a:r>
              <a:rPr b="0" lang="en-US" sz="3600" spc="-1" strike="noStrike">
                <a:solidFill>
                  <a:srgbClr val="ffffff"/>
                </a:solidFill>
                <a:latin typeface="Franklin Gothic Dem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Demi"/>
              </a:rPr>
              <a:t>ΣΤΗΡΙΞ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Demi"/>
              </a:rPr>
              <a:t>ΑΝΕΞΑΡΤΗΤΗ ΡΙΖΟΣΠΑΣΤΙΚΗ ΠΑΡΕΜΒΑΣ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5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5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7:42:46Z</dcterms:created>
  <dc:creator>x</dc:creator>
  <dc:description/>
  <dc:language>en-US</dc:language>
  <cp:lastModifiedBy>isidoros</cp:lastModifiedBy>
  <dcterms:modified xsi:type="dcterms:W3CDTF">2007-10-29T12:25:10Z</dcterms:modified>
  <cp:revision>3</cp:revision>
  <dc:subject/>
  <dc:title>Διαφάνεια 1</dc:title>
</cp:coreProperties>
</file>